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A59-8FBD-4FFD-882C-AF27DA3F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EBD-5FA0-48B0-BA0C-D4446DF1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22B-18A9-474A-9439-D445C97D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5FD-9E43-40F8-A1E2-DE7E8CF6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E344-B020-4DAB-9331-3C52FCD8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BE1A-96EE-42AA-95A0-F4D73664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E653-A93E-4766-A4D8-9D960C15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222F-6A71-4AA8-86E0-551F5A90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206E-9A80-4E10-A0AE-3E51DC8E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2DB2-6D56-4149-B9AC-573A4AA0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82B0-E311-4B09-B8DC-99B342E0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947-EF68-401C-9C44-518B01C3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0C33-53F2-4157-97D1-9A38B163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8075-F6A2-43B1-8367-C1B878F0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9F8F-6432-4A25-92F9-839BAFDC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1153-65AE-496E-8D40-CB2C47D8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704B-76FA-477B-81B3-C21F66A6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3E5-6EA1-491F-82AC-093CFEC1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6A0-82D3-4CB0-8BFE-24C7CBD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CAD-130D-49C0-8D8B-AEF716D5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D53-7047-4AA5-8A24-2ABF703F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327-FB9F-4FDD-B942-C77321B3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F2A-367D-486D-BE8B-F581D25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982-8C6E-4834-8698-6A3EE285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FD72-80AE-439B-83E5-C0DC389E2DB4}" type="slidenum">
              <a:rPr b="0" lang="en-CA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440" y="437040"/>
                  <a:ext cx="114912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6920" y="601200"/>
                <a:ext cx="1301040" cy="1269720"/>
                <a:chOff x="757692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292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240"/>
                <a:ext cx="1188720" cy="1320840"/>
                <a:chOff x="6614640" y="5115240"/>
                <a:chExt cx="1188720" cy="132084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560" y="5198040"/>
                  <a:ext cx="65088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32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44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00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508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28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592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20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440" y="437040"/>
                  <a:ext cx="114912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6920" y="601200"/>
                <a:ext cx="1301040" cy="1269720"/>
                <a:chOff x="757692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292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240"/>
                <a:ext cx="1188720" cy="1320840"/>
                <a:chOff x="6614640" y="5115240"/>
                <a:chExt cx="1188720" cy="132084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560" y="5198040"/>
                  <a:ext cx="65088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32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44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00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508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28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592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20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7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7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8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8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39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39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4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4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41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41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42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42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4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4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4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4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1951-16B3-4631-8C3E-B5C0671A9919}" type="slidenum">
              <a:rPr b="0" lang="en-CA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Verdana"/>
              </a:rPr>
              <a:t>4.5 Summarizing Text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2000" spc="-1" strike="noStrike">
              <a:solidFill>
                <a:srgbClr val="ff9000"/>
              </a:solidFill>
              <a:latin typeface="Verdana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120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736200"/>
            <a:ext cx="71265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sp>
        <p:nvSpPr>
          <p:cNvPr id="319" name="5-Point Star 3"/>
          <p:cNvSpPr/>
          <p:nvPr/>
        </p:nvSpPr>
        <p:spPr>
          <a:xfrm>
            <a:off x="20520" y="2060640"/>
            <a:ext cx="3024360" cy="4464000"/>
          </a:xfrm>
          <a:custGeom>
            <a:avLst/>
            <a:gdLst/>
            <a:ahLst/>
            <a:rect l="l" t="t" r="r" b="b"/>
            <a:pathLst>
              <a:path w="3024336" h="4464496">
                <a:moveTo>
                  <a:pt x="3" y="1705281"/>
                </a:moveTo>
                <a:lnTo>
                  <a:pt x="1155200" y="1705293"/>
                </a:lnTo>
                <a:lnTo>
                  <a:pt x="1512168" y="0"/>
                </a:lnTo>
                <a:lnTo>
                  <a:pt x="1869136" y="1705293"/>
                </a:lnTo>
                <a:lnTo>
                  <a:pt x="3024333" y="1705281"/>
                </a:lnTo>
                <a:lnTo>
                  <a:pt x="2089754" y="2759199"/>
                </a:lnTo>
                <a:lnTo>
                  <a:pt x="2446737" y="4464485"/>
                </a:lnTo>
                <a:lnTo>
                  <a:pt x="1512168" y="3410548"/>
                </a:lnTo>
                <a:lnTo>
                  <a:pt x="577599" y="4464485"/>
                </a:lnTo>
                <a:lnTo>
                  <a:pt x="934582" y="2759199"/>
                </a:lnTo>
                <a:lnTo>
                  <a:pt x="3" y="1705281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849240" y="41083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Rectangle 5" descr=""/>
          <p:cNvPicPr/>
          <p:nvPr/>
        </p:nvPicPr>
        <p:blipFill>
          <a:blip r:embed="rId2"/>
          <a:stretch/>
        </p:blipFill>
        <p:spPr>
          <a:xfrm>
            <a:off x="1670040" y="1670040"/>
            <a:ext cx="7729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What is a summar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A summary is a shorter version of a longer piece of wri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A good summary should capture the </a:t>
            </a: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main idea </a:t>
            </a: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and its </a:t>
            </a: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supporting details</a:t>
            </a: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, but expresses them in a much shorter amount of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Content Placeholder 2" descr=""/>
          <p:cNvPicPr/>
          <p:nvPr/>
        </p:nvPicPr>
        <p:blipFill>
          <a:blip r:embed="rId1"/>
          <a:stretch/>
        </p:blipFill>
        <p:spPr>
          <a:xfrm>
            <a:off x="1011240" y="1805040"/>
            <a:ext cx="7278840" cy="4052880"/>
          </a:xfrm>
          <a:prstGeom prst="rect">
            <a:avLst/>
          </a:prstGeom>
          <a:ln w="0">
            <a:noFill/>
          </a:ln>
        </p:spPr>
      </p:pic>
      <p:sp>
        <p:nvSpPr>
          <p:cNvPr id="283" name="5-Point Star 3"/>
          <p:cNvSpPr/>
          <p:nvPr/>
        </p:nvSpPr>
        <p:spPr>
          <a:xfrm>
            <a:off x="87480" y="2852640"/>
            <a:ext cx="3168360" cy="2016360"/>
          </a:xfrm>
          <a:custGeom>
            <a:avLst/>
            <a:gdLst/>
            <a:ahLst/>
            <a:rect l="l" t="t" r="r" b="b"/>
            <a:pathLst>
              <a:path w="3168352" h="2016224">
                <a:moveTo>
                  <a:pt x="3" y="770127"/>
                </a:moveTo>
                <a:lnTo>
                  <a:pt x="1210209" y="770133"/>
                </a:lnTo>
                <a:lnTo>
                  <a:pt x="1584176" y="0"/>
                </a:lnTo>
                <a:lnTo>
                  <a:pt x="1958143" y="770133"/>
                </a:lnTo>
                <a:lnTo>
                  <a:pt x="3168349" y="770127"/>
                </a:lnTo>
                <a:lnTo>
                  <a:pt x="2189267" y="1246090"/>
                </a:lnTo>
                <a:lnTo>
                  <a:pt x="2563249" y="2016219"/>
                </a:lnTo>
                <a:lnTo>
                  <a:pt x="1584176" y="1540247"/>
                </a:lnTo>
                <a:lnTo>
                  <a:pt x="605103" y="2016219"/>
                </a:lnTo>
                <a:lnTo>
                  <a:pt x="979085" y="1246090"/>
                </a:lnTo>
                <a:lnTo>
                  <a:pt x="3" y="770127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1265400" y="36766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Content Placeholder 2" descr=""/>
          <p:cNvPicPr/>
          <p:nvPr/>
        </p:nvPicPr>
        <p:blipFill>
          <a:blip r:embed="rId1"/>
          <a:stretch/>
        </p:blipFill>
        <p:spPr>
          <a:xfrm>
            <a:off x="1011240" y="1695600"/>
            <a:ext cx="7218360" cy="4290840"/>
          </a:xfrm>
          <a:prstGeom prst="rect">
            <a:avLst/>
          </a:prstGeom>
          <a:ln w="0">
            <a:noFill/>
          </a:ln>
        </p:spPr>
      </p:pic>
      <p:sp>
        <p:nvSpPr>
          <p:cNvPr id="287" name="5-Point Star 4"/>
          <p:cNvSpPr/>
          <p:nvPr/>
        </p:nvSpPr>
        <p:spPr>
          <a:xfrm>
            <a:off x="179280" y="1989000"/>
            <a:ext cx="3456000" cy="2880000"/>
          </a:xfrm>
          <a:custGeom>
            <a:avLst/>
            <a:gdLst/>
            <a:ahLst/>
            <a:rect l="l" t="t" r="r" b="b"/>
            <a:pathLst>
              <a:path w="3456384" h="2880320">
                <a:moveTo>
                  <a:pt x="4" y="1100182"/>
                </a:moveTo>
                <a:lnTo>
                  <a:pt x="1320228" y="1100189"/>
                </a:lnTo>
                <a:lnTo>
                  <a:pt x="1728192" y="0"/>
                </a:lnTo>
                <a:lnTo>
                  <a:pt x="2136156" y="1100189"/>
                </a:lnTo>
                <a:lnTo>
                  <a:pt x="3456380" y="1100182"/>
                </a:lnTo>
                <a:lnTo>
                  <a:pt x="2388291" y="1780128"/>
                </a:lnTo>
                <a:lnTo>
                  <a:pt x="2796271" y="2880313"/>
                </a:lnTo>
                <a:lnTo>
                  <a:pt x="1728192" y="2200354"/>
                </a:lnTo>
                <a:lnTo>
                  <a:pt x="660113" y="2880313"/>
                </a:lnTo>
                <a:lnTo>
                  <a:pt x="1068093" y="1780128"/>
                </a:lnTo>
                <a:lnTo>
                  <a:pt x="4" y="1100182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116000" y="32446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09800" y="1806120"/>
            <a:ext cx="7124400" cy="48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5-Point Star 3"/>
          <p:cNvSpPr/>
          <p:nvPr/>
        </p:nvSpPr>
        <p:spPr>
          <a:xfrm>
            <a:off x="468360" y="2060640"/>
            <a:ext cx="3456000" cy="2808360"/>
          </a:xfrm>
          <a:custGeom>
            <a:avLst/>
            <a:gdLst/>
            <a:ahLst/>
            <a:rect l="l" t="t" r="r" b="b"/>
            <a:pathLst>
              <a:path w="3456384" h="2808312">
                <a:moveTo>
                  <a:pt x="4" y="1072677"/>
                </a:moveTo>
                <a:lnTo>
                  <a:pt x="1320228" y="1072685"/>
                </a:lnTo>
                <a:lnTo>
                  <a:pt x="1728192" y="0"/>
                </a:lnTo>
                <a:lnTo>
                  <a:pt x="2136156" y="1072685"/>
                </a:lnTo>
                <a:lnTo>
                  <a:pt x="3456380" y="1072677"/>
                </a:lnTo>
                <a:lnTo>
                  <a:pt x="2388291" y="1735625"/>
                </a:lnTo>
                <a:lnTo>
                  <a:pt x="2796271" y="2808305"/>
                </a:lnTo>
                <a:lnTo>
                  <a:pt x="1728192" y="2145345"/>
                </a:lnTo>
                <a:lnTo>
                  <a:pt x="660113" y="2808305"/>
                </a:lnTo>
                <a:lnTo>
                  <a:pt x="1068093" y="1735625"/>
                </a:lnTo>
                <a:lnTo>
                  <a:pt x="4" y="1072677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1619280" y="32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Rectangle 5" descr=""/>
          <p:cNvPicPr/>
          <p:nvPr/>
        </p:nvPicPr>
        <p:blipFill>
          <a:blip r:embed="rId1"/>
          <a:stretch/>
        </p:blipFill>
        <p:spPr>
          <a:xfrm>
            <a:off x="3376440" y="1670040"/>
            <a:ext cx="6169320" cy="192096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6" descr=""/>
          <p:cNvPicPr/>
          <p:nvPr/>
        </p:nvPicPr>
        <p:blipFill>
          <a:blip r:embed="rId2"/>
          <a:stretch/>
        </p:blipFill>
        <p:spPr>
          <a:xfrm>
            <a:off x="3754440" y="3981600"/>
            <a:ext cx="44625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sp>
        <p:nvSpPr>
          <p:cNvPr id="297" name="5-Point Star 3"/>
          <p:cNvSpPr/>
          <p:nvPr/>
        </p:nvSpPr>
        <p:spPr>
          <a:xfrm>
            <a:off x="0" y="1557360"/>
            <a:ext cx="3168720" cy="2808360"/>
          </a:xfrm>
          <a:custGeom>
            <a:avLst/>
            <a:gdLst/>
            <a:ahLst/>
            <a:rect l="l" t="t" r="r" b="b"/>
            <a:pathLst>
              <a:path w="3168352" h="2808312">
                <a:moveTo>
                  <a:pt x="3" y="1072677"/>
                </a:moveTo>
                <a:lnTo>
                  <a:pt x="1210209" y="1072685"/>
                </a:lnTo>
                <a:lnTo>
                  <a:pt x="1584176" y="0"/>
                </a:lnTo>
                <a:lnTo>
                  <a:pt x="1958143" y="1072685"/>
                </a:lnTo>
                <a:lnTo>
                  <a:pt x="3168349" y="1072677"/>
                </a:lnTo>
                <a:lnTo>
                  <a:pt x="2189267" y="1735625"/>
                </a:lnTo>
                <a:lnTo>
                  <a:pt x="2563249" y="2808305"/>
                </a:lnTo>
                <a:lnTo>
                  <a:pt x="1584176" y="2145345"/>
                </a:lnTo>
                <a:lnTo>
                  <a:pt x="605103" y="2808305"/>
                </a:lnTo>
                <a:lnTo>
                  <a:pt x="979085" y="1735625"/>
                </a:lnTo>
                <a:lnTo>
                  <a:pt x="3" y="1072677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1008000" y="27766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Rectangle 5" descr=""/>
          <p:cNvPicPr/>
          <p:nvPr/>
        </p:nvPicPr>
        <p:blipFill>
          <a:blip r:embed="rId2"/>
          <a:stretch/>
        </p:blipFill>
        <p:spPr>
          <a:xfrm>
            <a:off x="2590920" y="1816200"/>
            <a:ext cx="6748200" cy="192060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6" descr=""/>
          <p:cNvPicPr/>
          <p:nvPr/>
        </p:nvPicPr>
        <p:blipFill>
          <a:blip r:embed="rId3"/>
          <a:stretch/>
        </p:blipFill>
        <p:spPr>
          <a:xfrm>
            <a:off x="2273400" y="3975120"/>
            <a:ext cx="59626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sp>
        <p:nvSpPr>
          <p:cNvPr id="303" name="5-Point Star 3"/>
          <p:cNvSpPr/>
          <p:nvPr/>
        </p:nvSpPr>
        <p:spPr>
          <a:xfrm>
            <a:off x="-1440" y="1774800"/>
            <a:ext cx="3673440" cy="3959280"/>
          </a:xfrm>
          <a:custGeom>
            <a:avLst/>
            <a:gdLst/>
            <a:ahLst/>
            <a:rect l="l" t="t" r="r" b="b"/>
            <a:pathLst>
              <a:path w="3672408" h="3960440">
                <a:moveTo>
                  <a:pt x="4" y="1512750"/>
                </a:moveTo>
                <a:lnTo>
                  <a:pt x="1402743" y="1512760"/>
                </a:lnTo>
                <a:lnTo>
                  <a:pt x="1836204" y="0"/>
                </a:lnTo>
                <a:lnTo>
                  <a:pt x="2269665" y="1512760"/>
                </a:lnTo>
                <a:lnTo>
                  <a:pt x="3672404" y="1512750"/>
                </a:lnTo>
                <a:lnTo>
                  <a:pt x="2537559" y="2447676"/>
                </a:lnTo>
                <a:lnTo>
                  <a:pt x="2971038" y="3960430"/>
                </a:lnTo>
                <a:lnTo>
                  <a:pt x="1836204" y="3025486"/>
                </a:lnTo>
                <a:lnTo>
                  <a:pt x="701370" y="3960430"/>
                </a:lnTo>
                <a:lnTo>
                  <a:pt x="1134849" y="2447676"/>
                </a:lnTo>
                <a:lnTo>
                  <a:pt x="4" y="1512750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Box 4"/>
          <p:cNvSpPr/>
          <p:nvPr/>
        </p:nvSpPr>
        <p:spPr>
          <a:xfrm>
            <a:off x="1258920" y="35701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Rectangle 5" descr=""/>
          <p:cNvPicPr/>
          <p:nvPr/>
        </p:nvPicPr>
        <p:blipFill>
          <a:blip r:embed="rId2"/>
          <a:stretch/>
        </p:blipFill>
        <p:spPr>
          <a:xfrm>
            <a:off x="2444760" y="1676520"/>
            <a:ext cx="6864480" cy="289548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6" descr=""/>
          <p:cNvPicPr/>
          <p:nvPr/>
        </p:nvPicPr>
        <p:blipFill>
          <a:blip r:embed="rId3"/>
          <a:stretch/>
        </p:blipFill>
        <p:spPr>
          <a:xfrm>
            <a:off x="2889360" y="4694400"/>
            <a:ext cx="65037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sp>
        <p:nvSpPr>
          <p:cNvPr id="309" name="5-Point Star 3"/>
          <p:cNvSpPr/>
          <p:nvPr/>
        </p:nvSpPr>
        <p:spPr>
          <a:xfrm>
            <a:off x="12600" y="1709640"/>
            <a:ext cx="3095640" cy="4681800"/>
          </a:xfrm>
          <a:custGeom>
            <a:avLst/>
            <a:gdLst/>
            <a:ahLst/>
            <a:rect l="l" t="t" r="r" b="b"/>
            <a:pathLst>
              <a:path w="3096344" h="4680520">
                <a:moveTo>
                  <a:pt x="3" y="1787795"/>
                </a:moveTo>
                <a:lnTo>
                  <a:pt x="1182705" y="1787808"/>
                </a:lnTo>
                <a:lnTo>
                  <a:pt x="1548172" y="0"/>
                </a:lnTo>
                <a:lnTo>
                  <a:pt x="1913639" y="1787808"/>
                </a:lnTo>
                <a:lnTo>
                  <a:pt x="3096341" y="1787795"/>
                </a:lnTo>
                <a:lnTo>
                  <a:pt x="2139511" y="2892708"/>
                </a:lnTo>
                <a:lnTo>
                  <a:pt x="2504993" y="4680508"/>
                </a:lnTo>
                <a:lnTo>
                  <a:pt x="1548172" y="3575574"/>
                </a:lnTo>
                <a:lnTo>
                  <a:pt x="591351" y="4680508"/>
                </a:lnTo>
                <a:lnTo>
                  <a:pt x="956833" y="2892708"/>
                </a:lnTo>
                <a:lnTo>
                  <a:pt x="3" y="1787795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1092240" y="38656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Rectangle 5" descr=""/>
          <p:cNvPicPr/>
          <p:nvPr/>
        </p:nvPicPr>
        <p:blipFill>
          <a:blip r:embed="rId2"/>
          <a:stretch/>
        </p:blipFill>
        <p:spPr>
          <a:xfrm>
            <a:off x="1768320" y="1609560"/>
            <a:ext cx="75409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8 Steps to Summarizing a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sp>
        <p:nvSpPr>
          <p:cNvPr id="314" name="5-Point Star 3"/>
          <p:cNvSpPr/>
          <p:nvPr/>
        </p:nvSpPr>
        <p:spPr>
          <a:xfrm>
            <a:off x="250920" y="1557360"/>
            <a:ext cx="3168720" cy="4608360"/>
          </a:xfrm>
          <a:custGeom>
            <a:avLst/>
            <a:gdLst/>
            <a:ahLst/>
            <a:rect l="l" t="t" r="r" b="b"/>
            <a:pathLst>
              <a:path w="3168352" h="4608512">
                <a:moveTo>
                  <a:pt x="3" y="1760290"/>
                </a:moveTo>
                <a:lnTo>
                  <a:pt x="1210209" y="1760303"/>
                </a:lnTo>
                <a:lnTo>
                  <a:pt x="1584176" y="0"/>
                </a:lnTo>
                <a:lnTo>
                  <a:pt x="1958143" y="1760303"/>
                </a:lnTo>
                <a:lnTo>
                  <a:pt x="3168349" y="1760290"/>
                </a:lnTo>
                <a:lnTo>
                  <a:pt x="2189267" y="2848205"/>
                </a:lnTo>
                <a:lnTo>
                  <a:pt x="2563249" y="4608500"/>
                </a:lnTo>
                <a:lnTo>
                  <a:pt x="1584176" y="3520566"/>
                </a:lnTo>
                <a:lnTo>
                  <a:pt x="605103" y="4608500"/>
                </a:lnTo>
                <a:lnTo>
                  <a:pt x="979085" y="2848205"/>
                </a:lnTo>
                <a:lnTo>
                  <a:pt x="3" y="1760290"/>
                </a:lnTo>
                <a:close/>
              </a:path>
            </a:pathLst>
          </a:custGeom>
          <a:solidFill>
            <a:srgbClr val="ed4600"/>
          </a:solidFill>
          <a:ln cap="rnd" w="19080">
            <a:solidFill>
              <a:srgbClr val="ae3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1258920" y="36766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Step 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Rectangle 5" descr=""/>
          <p:cNvPicPr/>
          <p:nvPr/>
        </p:nvPicPr>
        <p:blipFill>
          <a:blip r:embed="rId2"/>
          <a:stretch/>
        </p:blipFill>
        <p:spPr>
          <a:xfrm>
            <a:off x="2249640" y="1816200"/>
            <a:ext cx="712620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20:21:02Z</dcterms:created>
  <dc:creator>Jason</dc:creator>
  <dc:description/>
  <dc:language>en-US</dc:language>
  <cp:lastModifiedBy>Jason</cp:lastModifiedBy>
  <cp:lastPrinted>2011-05-09T11:29:26Z</cp:lastPrinted>
  <dcterms:modified xsi:type="dcterms:W3CDTF">2011-05-19T00:32:55Z</dcterms:modified>
  <cp:revision>4</cp:revision>
  <dc:subject/>
  <dc:title>4.5 Summarizing Texts</dc:title>
</cp:coreProperties>
</file>